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881990"/>
        <c:axId val="90144014"/>
      </c:barChart>
      <c:catAx>
        <c:axId val="268819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144014"/>
        <c:crosses val="autoZero"/>
        <c:auto val="1"/>
        <c:lblAlgn val="ctr"/>
        <c:lblOffset val="100"/>
        <c:noMultiLvlLbl val="0"/>
      </c:catAx>
      <c:valAx>
        <c:axId val="901440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8819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4ACE-0582-4022-A8F9-F9D0DC929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8134-C930-46DF-820D-8E3350DD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AEE1-7C29-4021-9208-E5783ECE5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6F41-39AC-4108-B25D-622C6F4D5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40EC-BB69-46D4-AB80-36E14D66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EB12-7F51-40C5-A099-C9BBBFB0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FEE0-2023-4BEA-9D28-F502DA34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8828-40D9-4F3B-9E90-D7BA9FB1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A8BB-3067-4FB9-BBF6-FF93DC77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25E2-1DEE-4B90-AE4A-6DD1E54E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2225-3F66-4D54-A98F-EE514121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16B0-D678-4BAB-8F49-DD352E2C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AE2BF9-FB66-4D69-989F-35CC6B0D9C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