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50223"/>
        <c:axId val="60809313"/>
      </c:barChart>
      <c:catAx>
        <c:axId val="36250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09313"/>
        <c:crosses val="autoZero"/>
        <c:auto val="1"/>
        <c:lblAlgn val="ctr"/>
        <c:lblOffset val="100"/>
        <c:noMultiLvlLbl val="0"/>
      </c:catAx>
      <c:valAx>
        <c:axId val="60809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50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A53-63A3-4DF2-9B35-C2E8CD8B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FD5-0D54-414F-8A80-54447D11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C73-AEB2-4756-BB1F-579EB5AF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5BF-F9C6-437F-B630-19C01B7F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79D-5B5A-4210-8766-44895C01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9DD-FECB-4707-85CE-0F4A17D6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827-AF25-443B-8E87-D837BA5F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867-678F-40BA-B657-15D20BCD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6C0-23F1-4077-8664-BDA9E850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D10-D64F-4CAD-9150-33841BF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FA0-93AE-4305-A73E-FC327AEC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D9C-2F4C-4F5D-8735-797CBD98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39D76-8B6A-45A8-ADA7-161F06A8EC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