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65810"/>
        <c:axId val="61462484"/>
      </c:barChart>
      <c:catAx>
        <c:axId val="58365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2484"/>
        <c:crosses val="autoZero"/>
        <c:auto val="1"/>
        <c:lblAlgn val="ctr"/>
        <c:lblOffset val="100"/>
        <c:noMultiLvlLbl val="0"/>
      </c:catAx>
      <c:valAx>
        <c:axId val="61462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65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617-95D8-467F-81F2-329D99A4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276-E87E-436E-9D6E-DF26DC2E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479-557B-44F6-AF4D-041190F1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5D5-D907-4184-9967-CAA06117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CF5-0D31-41F4-A586-5FC37D99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DA3-1381-4EDE-A517-CEEE7507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EBC-F12E-4147-A58F-BD367FAA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87D-A9B4-414A-AE1F-F28C4DB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DDE-468D-4E5A-A9B2-6AA85FE4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04D-3CDF-4BD9-B594-801EA365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42B-15E9-44FA-90FA-5E827AC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792-60F5-4A8C-A271-370C46A2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912D3-4A25-4E8A-BDD7-060A43EE72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