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05397"/>
        <c:axId val="14255766"/>
      </c:barChart>
      <c:catAx>
        <c:axId val="19205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55766"/>
        <c:crosses val="autoZero"/>
        <c:auto val="1"/>
        <c:lblAlgn val="ctr"/>
        <c:lblOffset val="100"/>
        <c:noMultiLvlLbl val="0"/>
      </c:catAx>
      <c:valAx>
        <c:axId val="14255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05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CF0-5941-4EC4-B2C8-DCCE9A63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17F-79FE-49FC-9A78-B20FC4C6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5B3-8618-4E11-A565-3CAD46BE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1EF-0E3D-456B-9D59-A82FC9F4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3B5-C5DF-418B-9327-05571A9E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5FF-7400-46D5-9596-369C7207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ED3-F674-40F8-9005-0DB051F7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FD2-45A2-48BA-8587-7740B21F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BAD-731A-4340-8EDE-DD1F5C05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630-8702-49C7-B9F1-23D39011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DF8-0F41-4A0E-85C6-B10E5125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EBE-0AA9-4200-B536-6167CD1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8580F-07BD-453C-8348-B813F732AC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