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886805"/>
        <c:axId val="13805219"/>
      </c:barChart>
      <c:catAx>
        <c:axId val="288680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3805219"/>
        <c:crosses val="autoZero"/>
        <c:auto val="1"/>
        <c:lblAlgn val="ctr"/>
        <c:lblOffset val="100"/>
        <c:noMultiLvlLbl val="0"/>
      </c:catAx>
      <c:valAx>
        <c:axId val="1380521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88680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73987-D503-4700-915C-DF550D9F1B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61A75-D391-49C1-8BB7-5F8E6E42A7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76B81-45B8-4130-A32E-A9E176C08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F9C88-D998-4C47-AD60-80BE4B3C31E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08FE-650C-4AED-AF7D-2D3BE8D7B4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B50D-29B5-4CF4-8AE7-62235DB003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A9AA8-957B-49FB-BB86-FE82AD5C2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E18E1-A4D7-47AB-9E9F-031C66E28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10C48-30CD-4D87-BA81-1022217524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7D9BC-C5CB-4B67-82DE-C58FFBFA1D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124F6-C589-463C-815F-EB9D7842CA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046E-6978-41C2-A2CB-07D81D6305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79CD1B-A801-4C69-A62F-38BC5EB5760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