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8490119"/>
        <c:axId val="17149279"/>
      </c:barChart>
      <c:catAx>
        <c:axId val="6849011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149279"/>
        <c:crosses val="autoZero"/>
        <c:auto val="1"/>
        <c:lblAlgn val="ctr"/>
        <c:lblOffset val="100"/>
        <c:noMultiLvlLbl val="0"/>
      </c:catAx>
      <c:valAx>
        <c:axId val="1714927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49011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79BC0-627D-4244-A23B-BFAAC8A9F1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ED4C7-CC1B-4D54-A822-DB0449DD77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E290-5B6D-4649-8997-F0CFE9B767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B59421-C02B-471E-BB50-04ED9D72EC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B4C38-F49E-45D1-96EB-6BA878594C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A3DC4-0D00-468E-B3AE-8702EF6D42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8AB4-2658-498F-AB0C-1DFCD1896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AC92-A13D-4D57-B0FE-019B052764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77EAC-506C-4894-B333-B1F155111A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EC355-448E-4FDE-AF16-E38029181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3356-6435-4DAC-BC4C-4C2DFD7B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453D6-1DB8-4E41-BAB5-DB1B793232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4AF032-0B3F-432A-A162-E702D3AA7563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