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4DC6D-2416-473E-862B-173B8D4E5A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D315E-743D-4F69-8A1F-92ECD3F74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075D98-74D4-425C-839C-775A71FD78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77DA9-8D90-4F57-A04B-5601CD62D6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853E-05F3-4F89-809A-20B880897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5CA1D-5C87-48F6-9406-093ACB182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C77771-CCE2-4326-A00B-BBBD8EC7BF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2695-1887-482A-87E4-848F31F2C0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23E62-F2EE-41BF-9A29-E873C8CAF1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D97C-974F-4FDF-BA43-CAD55D497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5D5A8-04B0-421F-BF08-7EB004C00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463EF-286F-4356-AA12-16E13141A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D24707-E3B3-4722-A955-DB5D51AEFCC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3333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1250"/>
              </a:spcBef>
              <a:spcAft>
                <a:spcPts val="125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Black title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000" spc="-1" strike="noStrike">
                <a:solidFill>
                  <a:srgbClr val="000000"/>
                </a:solidFill>
                <a:latin typeface="Arial"/>
              </a:rPr>
              <a:t>Bla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Black and </a:t>
            </a:r>
            <a:r>
              <a:rPr b="1" lang="en-US" sz="2000" spc="-1" strike="noStrike">
                <a:solidFill>
                  <a:srgbClr val="3333ff"/>
                </a:solidFill>
                <a:latin typeface="Arial"/>
              </a:rPr>
              <a:t>bl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buClr>
                <a:srgbClr val="ff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6600"/>
                </a:solidFill>
                <a:latin typeface="Arial"/>
              </a:rPr>
              <a:t>Orange a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8-27T07:11:32Z</dcterms:created>
  <dc:creator>Edwin Guenthner</dc:creator>
  <dc:description/>
  <dc:language>en-US</dc:language>
  <cp:lastModifiedBy>muthu</cp:lastModifiedBy>
  <dcterms:modified xsi:type="dcterms:W3CDTF">2013-11-22T13:28:39Z</dcterms:modified>
  <cp:revision>8</cp:revision>
  <dc:subject/>
  <dc:title>LO 4.1 – showing wrong colors!</dc:title>
</cp:coreProperties>
</file>