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98052"/>
        <c:axId val="91567624"/>
      </c:barChart>
      <c:catAx>
        <c:axId val="51798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67624"/>
        <c:crosses val="autoZero"/>
        <c:auto val="1"/>
        <c:lblAlgn val="ctr"/>
        <c:lblOffset val="100"/>
        <c:noMultiLvlLbl val="0"/>
      </c:catAx>
      <c:valAx>
        <c:axId val="91567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98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4FF-2911-4956-908A-2F11AF2F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D94-E322-4737-81BA-CF771F3C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395-3653-47FF-80CD-16FA308F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F3D-0830-4424-8F43-2F7FB0A0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43D-9548-49A1-B7B5-7F796807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E77-D800-42D9-82D4-49E8B896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E97-6AFB-427E-B851-73015CCC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345-B87B-4BC0-8BD8-6F95D279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4BE-4B84-4855-80AE-9A61F094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EE2-95A2-4992-9B21-E1514B4A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D84-9960-45EE-85BA-82BCC866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68E-9C1C-4DA0-A110-DA0BC39B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5C894-167C-4B9B-B436-6967A79E75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