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4873"/>
        <c:axId val="52492531"/>
      </c:barChart>
      <c:catAx>
        <c:axId val="5454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92531"/>
        <c:crosses val="autoZero"/>
        <c:auto val="1"/>
        <c:lblAlgn val="ctr"/>
        <c:lblOffset val="100"/>
        <c:noMultiLvlLbl val="0"/>
      </c:catAx>
      <c:valAx>
        <c:axId val="52492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4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86F-7864-4476-B6B2-FCADA2AA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31D-4682-4E15-97C2-2CE2ACDA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85A-9E48-45B4-8AF6-F50A0B3B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164-9609-4C55-946C-05367A34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E90-F5C9-4167-A065-380B3DEA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C0F-B00B-4751-A96A-AD38BDA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421-5B42-44E4-9DF0-A8E5DB6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BF9-5422-47DB-89B8-0022E5F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86B-0467-4C96-A5C2-84EA1E8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7C3-92E8-4D0E-B0B5-48824FAC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4B3-35B6-4E26-8FB3-B14D634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B222-F58E-4916-9D1E-2F411908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921D-74CB-435C-A8F5-A8B1AD58A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