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45123"/>
        <c:axId val="96170586"/>
      </c:barChart>
      <c:catAx>
        <c:axId val="48845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70586"/>
        <c:crosses val="autoZero"/>
        <c:auto val="1"/>
        <c:lblAlgn val="ctr"/>
        <c:lblOffset val="100"/>
        <c:noMultiLvlLbl val="0"/>
      </c:catAx>
      <c:valAx>
        <c:axId val="96170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45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0A3-E20E-4229-B21C-6A648C6E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FFE-C568-4D1A-9340-66CDD4C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6E2-E1D3-4BA2-A1DB-2D1082B5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360-B70F-4B69-B7DD-7D71826E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379-932A-4B1B-AE4D-25FFDF7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202-A4C8-46A8-8006-5CF6FDA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487-B885-4C19-8DE9-5B31C35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D56-0746-4DE5-A1D0-1DFCBD22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71C-C1B8-4FB6-968B-4CE2FEE3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7CB-C3BE-49AF-92E5-4F4C037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DFF-4912-4630-A352-7F61E69C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C1A-8A78-4209-9912-5FF9EFB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4D38A-2822-4E03-B86C-22A7A9B346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