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1825731"/>
        <c:axId val="22017358"/>
      </c:barChart>
      <c:catAx>
        <c:axId val="818257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2017358"/>
        <c:crosses val="autoZero"/>
        <c:auto val="1"/>
        <c:lblAlgn val="ctr"/>
        <c:lblOffset val="100"/>
        <c:noMultiLvlLbl val="0"/>
      </c:catAx>
      <c:valAx>
        <c:axId val="2201735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8257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EC567B-F519-4A5B-ACEA-AE77C67FE8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4B33C-DF30-4BA4-8C8F-C3EAEBD86D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A5A4C-E2A2-4ED8-8A72-FA46F5D91A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FB2EC5-DDEB-49A1-8846-718A147FD6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B57BB4-D87E-4624-B0AA-46C4BFB37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F8FCA-C2C7-4591-938B-B1D4FE5DF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EF4C-B388-4CB8-8324-EFEC3AFDBE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7BB5FD-F4FA-4BFB-AF7A-651A2E812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5FD1D-48B3-42B7-B297-B3EAA7AF9E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0FD70-6EEC-42E3-AD5E-C6CC0EE100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B52A-F39D-46CE-8BAF-B5974082E4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5FA0EA-1CE5-489D-BC60-E250BA28F9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6313159-4C5A-41ED-91A6-2377501ABB9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