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93229"/>
        <c:axId val="55433553"/>
      </c:barChart>
      <c:catAx>
        <c:axId val="98693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3553"/>
        <c:crosses val="autoZero"/>
        <c:auto val="1"/>
        <c:lblAlgn val="ctr"/>
        <c:lblOffset val="100"/>
        <c:noMultiLvlLbl val="0"/>
      </c:catAx>
      <c:valAx>
        <c:axId val="55433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93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B5A-1BC2-4538-9922-ADCC7148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525-7797-4828-8C97-717C4A3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C57-3D67-4751-B135-6F02E3B2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D00-BC55-4C0B-9D4C-5E056311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B91-AD78-40E7-8ECE-5A61196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D6F-9BF8-4BB1-98F4-F4012F4C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50D-2CE3-44DD-A33B-663BF1A3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116-4D8E-4C8A-9DDF-82AD537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6F0-6F67-45B4-921C-1C7B628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0BC-FA2A-41A4-98E9-F7ED3A2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A79-8CAB-4F17-BFE6-C4A5A1D6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872-3DC3-4E61-99AD-21A6014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CFBA1-3B4F-42F0-8867-6460FA89BA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