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944220"/>
        <c:axId val="54225852"/>
      </c:barChart>
      <c:catAx>
        <c:axId val="629442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225852"/>
        <c:crosses val="autoZero"/>
        <c:auto val="1"/>
        <c:lblAlgn val="ctr"/>
        <c:lblOffset val="100"/>
        <c:noMultiLvlLbl val="0"/>
      </c:catAx>
      <c:valAx>
        <c:axId val="542258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9442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6F9F-964C-4017-92E2-3035256DC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7E29-D70F-4983-993A-C912EB5A0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8882-5B54-4BFB-92E6-A5FF11ABA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348E-A727-4739-BAF8-E82DDA50A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E164-D27B-4E85-A48C-B67B3DE12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5E2E-0CB3-4FCD-9C0D-5D5B80435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F89B-C10B-4B3A-989B-9062591BB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53F9-7553-4C56-B9A2-1AB64DC3D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77DC-71B8-487F-BCC8-E7B26F19B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8D85-E153-4E36-A153-F9A3788B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5422-1B48-44C2-9481-99BB21DA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446E-9533-414A-AF85-E0205C867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4C93C2-9AEA-4737-A5A4-22400BD0F68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