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61789"/>
        <c:axId val="24625594"/>
      </c:barChart>
      <c:catAx>
        <c:axId val="77961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25594"/>
        <c:crosses val="autoZero"/>
        <c:auto val="1"/>
        <c:lblAlgn val="ctr"/>
        <c:lblOffset val="100"/>
        <c:noMultiLvlLbl val="0"/>
      </c:catAx>
      <c:valAx>
        <c:axId val="24625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1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B7A-DC74-45F9-8F45-72291C75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4C7-1A38-4EF8-A0C4-AA90ACB0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E9F-950A-4433-9AE2-00329AF9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F69-2A36-48B6-812D-8442C897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A04-132C-4BC8-80F6-08B5DA78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568-9A55-47AA-8346-8A080AFD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88C-4B31-4E45-997B-973A568F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008-7E37-42EC-8A26-E5FF503B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E47-FD34-459C-A965-C21B46CD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A18-5E36-47FD-BD5B-DD7C2715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524-B79F-4346-9A63-40FA995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DE0-15FC-4A15-ADA6-89865783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D916C-C0A2-4167-82F7-685711054B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