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64867"/>
        <c:axId val="52536975"/>
      </c:barChart>
      <c:catAx>
        <c:axId val="13564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36975"/>
        <c:crosses val="autoZero"/>
        <c:auto val="1"/>
        <c:lblAlgn val="ctr"/>
        <c:lblOffset val="100"/>
        <c:noMultiLvlLbl val="0"/>
      </c:catAx>
      <c:valAx>
        <c:axId val="52536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64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BBE-725E-405E-BD14-B40CFD43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6EF-8765-4F4C-95E7-B751D344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1C9-033A-4342-8D6E-81AF1361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1D2-85C1-4CCD-ABE1-295FFCB1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889-3A8C-4689-984A-E4E6544D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EEB-1D91-4A75-958C-F81A835E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7A7-08AF-4505-A516-79DD246E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931-B97A-4CAA-9613-5D889086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491-14F8-4C63-B418-0226C574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7CF-411A-4BE8-A542-1AC55029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564-1B95-440F-908B-5EE4F158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6C2-1C19-4E71-914F-89C83AFC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D2B8A-FF39-429F-A32D-689EDE68BD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