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51380"/>
        <c:axId val="56325272"/>
      </c:barChart>
      <c:catAx>
        <c:axId val="19051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25272"/>
        <c:crosses val="autoZero"/>
        <c:auto val="1"/>
        <c:lblAlgn val="ctr"/>
        <c:lblOffset val="100"/>
        <c:noMultiLvlLbl val="0"/>
      </c:catAx>
      <c:valAx>
        <c:axId val="56325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51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433-6669-48EC-A3A8-3635B52C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1F8-58D4-46AF-A7AC-293DCA46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0AF-86EA-4A62-8CD1-A691B4EA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5E6-16B8-43AC-8D69-32F2712C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8A5-FDFD-4AF3-A2E4-BEB6F459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A59-80C3-4C8D-B59A-8A7A83E0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377-ED2C-46D8-813D-133EAAC8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0EF-D0F5-4D06-ACA1-9153A8EA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BC3-D9E1-4181-A1DF-6A94F219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999-9813-459C-8B78-B7851061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B4C-505F-4F9F-A056-0929C316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2A6-97B7-4C86-9149-E9922FE3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AEA85-9065-4FBC-A3EF-65DFD14779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