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53030"/>
        <c:axId val="89320183"/>
      </c:barChart>
      <c:catAx>
        <c:axId val="36553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20183"/>
        <c:crosses val="autoZero"/>
        <c:auto val="1"/>
        <c:lblAlgn val="ctr"/>
        <c:lblOffset val="100"/>
        <c:noMultiLvlLbl val="0"/>
      </c:catAx>
      <c:valAx>
        <c:axId val="89320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53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F2A-DB76-4696-B856-A311B51E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96E-EE82-414E-A06B-A07057F5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0EC-EC34-472F-8D1A-5E0ACF6F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4AD-9D12-4F55-835E-54AF0380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524-7EBD-4AB2-A933-C24189F1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E44-18C9-49E1-8A7D-2C6B7524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C15-B331-4101-A3E0-15731047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AA4-707E-4B78-91FD-E5E5A1D0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2E8-BBB9-4D63-8BEA-A27654E0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C61-4784-4BA9-A663-54F99D8E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18D8-2F30-4A91-9D40-C78945F4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16E-8C09-4029-825F-423B5514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3E9D9-6C3A-4572-A86B-A72B19C88F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