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46221"/>
        <c:axId val="7478258"/>
      </c:barChart>
      <c:catAx>
        <c:axId val="97346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8258"/>
        <c:crosses val="autoZero"/>
        <c:auto val="1"/>
        <c:lblAlgn val="ctr"/>
        <c:lblOffset val="100"/>
        <c:noMultiLvlLbl val="0"/>
      </c:catAx>
      <c:valAx>
        <c:axId val="7478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46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E3C-55F2-44E5-8B22-18D60C4D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1FB-C56B-49E9-8397-4646B6E6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BDE-0E79-4EAA-AABE-29E06368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F8E-A0B0-4024-A936-265DE81D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054-98B2-40B2-BB45-C7EE1FD4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DC0-9070-4414-93A6-907719F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584-F861-478A-8AD7-FE2EA192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BB9-E25C-4C3E-A711-D44C2A90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2D9-5E00-4E6F-99CA-09C1B80E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2DC-85D6-4A02-B4E8-4D01725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DBD-B558-42ED-AF77-22042C5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C5C-DA09-410F-A308-8352AA3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55B5C-F7BF-463A-9CA4-DCE253BD5B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