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39698"/>
        <c:axId val="8639719"/>
      </c:barChart>
      <c:catAx>
        <c:axId val="75439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9719"/>
        <c:crosses val="autoZero"/>
        <c:auto val="1"/>
        <c:lblAlgn val="ctr"/>
        <c:lblOffset val="100"/>
        <c:noMultiLvlLbl val="0"/>
      </c:catAx>
      <c:valAx>
        <c:axId val="8639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39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9B8-EB05-49B5-8FAC-37568CE6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FDD-2A24-42A2-A5C5-9A191FFE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BDD-4F73-4D5E-8354-B48EAD1E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E29-6A2C-4E47-B094-B85FC376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0FC-469F-469E-AA3A-8A788EFB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CF0-69D3-4810-A60E-F11AAB46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461-1D65-4857-9795-730748F5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5CA-DA97-42D3-8E80-1657EF48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F70-6FC9-4541-B9D8-C2572E02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D89-8C05-4062-BC7D-FFDDBEA1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814-D5CC-4B90-9036-F02E63F6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7A9-3817-4CCD-9DF3-B9F5EA6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9FB1F-FE1A-4CAF-A6C9-6D1E1CFAE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