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21414"/>
        <c:axId val="47647819"/>
      </c:barChart>
      <c:catAx>
        <c:axId val="11321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7819"/>
        <c:crosses val="autoZero"/>
        <c:auto val="1"/>
        <c:lblAlgn val="ctr"/>
        <c:lblOffset val="100"/>
        <c:noMultiLvlLbl val="0"/>
      </c:catAx>
      <c:valAx>
        <c:axId val="47647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1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BB7-9B6A-4FA2-A0A2-D85B9260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ECC-8255-45E5-BDA4-B910B1D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902-438A-4BA1-9B77-021B0484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221-89F9-416A-AFB3-A6148B61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366-D3B1-43AE-BC90-DFFA0D3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E88-9105-4679-B535-0D1CBE2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3EE-4BA5-453D-9EBF-9298543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5F4-B81D-4B08-89DC-E5B80A8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433-ADA1-48E6-9380-9C7F42C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324-F5BB-456A-83B6-85CF08B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79A-1B55-4EC7-A903-09E253B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D3A-220D-48E2-A481-DF56E4B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EF334-CC48-463B-859C-62C74DAC2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