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2220"/>
        <c:axId val="80019192"/>
      </c:barChart>
      <c:catAx>
        <c:axId val="66902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9192"/>
        <c:crosses val="autoZero"/>
        <c:auto val="1"/>
        <c:lblAlgn val="ctr"/>
        <c:lblOffset val="100"/>
        <c:noMultiLvlLbl val="0"/>
      </c:catAx>
      <c:valAx>
        <c:axId val="80019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2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F12-7177-4B5D-9958-5041306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E06-A0E4-424E-8B7E-BCFDDE3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D1F-8BA5-4634-A68E-E769CAB0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735-21C8-4CC3-BF3E-16FB4A81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7E8-5253-4E14-B131-331AB13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DF8-729C-4468-B7CB-AFAFE70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193-A6F4-43A1-8822-0923B43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63E-D50F-4751-A465-C62C633E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73C-8AD6-44B2-B8F3-930660AD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069-96D0-4EB5-9B7B-AD438D1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021-5943-416F-9B81-8A4458D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945-B028-4C9F-BDF1-EB69527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A684F-3606-4B33-A839-8630B16145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