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93026"/>
        <c:axId val="60470595"/>
      </c:barChart>
      <c:catAx>
        <c:axId val="61893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70595"/>
        <c:crosses val="autoZero"/>
        <c:auto val="1"/>
        <c:lblAlgn val="ctr"/>
        <c:lblOffset val="100"/>
        <c:noMultiLvlLbl val="0"/>
      </c:catAx>
      <c:valAx>
        <c:axId val="60470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93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DFB-FA5F-4898-9B14-ECE298C2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C3E-12BF-456C-BFFD-EFBFD7C8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86F-A745-41FD-A595-19121778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9BE-CF37-452A-A60D-3D1073D1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C64-ED9A-4830-B0FB-E6E27376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5A6-D905-416A-AE1F-8388AA04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6FD-751A-40E3-88B6-043E3B1D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B3F-0EF7-4437-84B0-39287D28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1CB-64C6-407D-A5A6-1C2F4283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2C7-7AAE-4CB4-A63B-6599D104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CCE-5B22-40BB-8502-6A9BE15A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BA3-BD7C-49C7-BE81-D372C65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FA5C8-BC90-4F02-B63E-78B8A0E9DE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