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048231"/>
        <c:axId val="80777562"/>
      </c:barChart>
      <c:catAx>
        <c:axId val="120482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77562"/>
        <c:crosses val="autoZero"/>
        <c:auto val="1"/>
        <c:lblAlgn val="ctr"/>
        <c:lblOffset val="100"/>
        <c:noMultiLvlLbl val="0"/>
      </c:catAx>
      <c:valAx>
        <c:axId val="807775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482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8F4E-9628-4D48-950A-CAE43403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7D56-9B57-4164-9DF4-20C84BA2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5B9C-A9AD-4E42-B166-3A6CF8A60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3F08-C1DC-49D0-816A-46DCAB802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8EA0-24C1-49A8-9F60-36AA392B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71A3-E2E7-4CED-9833-A4A62A09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FD04-E2EF-4777-BEAC-9C6FDE5D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D65A-148B-4BEE-B11F-D1F8E03D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119E-FA47-4913-BA9E-5BC78459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EA44-27E5-4BD6-9434-D4DC81A0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95E3-CA82-42A9-9648-81D4C238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46B6-85F5-4154-8314-325EE9AA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A6B38-A920-4E3D-B81C-5CE7381261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