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085816"/>
        <c:axId val="95578617"/>
      </c:barChart>
      <c:catAx>
        <c:axId val="508581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578617"/>
        <c:crosses val="autoZero"/>
        <c:auto val="1"/>
        <c:lblAlgn val="ctr"/>
        <c:lblOffset val="100"/>
        <c:noMultiLvlLbl val="0"/>
      </c:catAx>
      <c:valAx>
        <c:axId val="9557861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08581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54CFE-76F0-45BC-849D-3A8D7B183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BFBD8-0B70-4A42-BBBB-13F1735C3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2764E-172F-4C16-9626-AB73F4FE2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266CA-23C7-4255-B0FF-7B66F4AE2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2440B-5945-465F-804D-71F3FDEB6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50924-E4F5-47DC-BFFE-7A7C6A933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F54DA-0759-4418-97A3-E92200A78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0FBDA-6728-4899-B3A0-D20562D41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7B612-68CE-4E70-9910-3F66B660A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A2FCD-CF21-4E07-ACE4-34864690A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F374A-5C6D-4FEA-9D51-E08C96906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FFF5B-2CC3-4829-A243-C41150BFD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B0A278-5291-4A45-81C8-A5869DF441E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