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69569"/>
        <c:axId val="10344117"/>
      </c:barChart>
      <c:catAx>
        <c:axId val="36569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44117"/>
        <c:crosses val="autoZero"/>
        <c:auto val="1"/>
        <c:lblAlgn val="ctr"/>
        <c:lblOffset val="100"/>
        <c:noMultiLvlLbl val="0"/>
      </c:catAx>
      <c:valAx>
        <c:axId val="10344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9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742-30BB-4F10-BCD8-17D5808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039-4BF4-40D0-90C1-FC7A135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9D7-9293-4C18-8D45-51944D87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979-A188-4C2F-9A7A-1D2A8172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F23-F39B-4900-83A5-400DB4F2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DC9-9FCA-4813-8977-C2FADAD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9AD-D746-4A79-8429-3722811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F74-2C48-4E63-AA4C-DCD6F527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A23-44F6-4DF4-BE80-18ABFF4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72E-8169-4D86-ACF1-C988185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BAE-56AD-495A-9801-BAB4DF3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CE6-3607-4080-888B-7C7E6D3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03156-44A7-4BE2-9A23-E92DA988CB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