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206829"/>
        <c:axId val="63362027"/>
      </c:barChart>
      <c:catAx>
        <c:axId val="372068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62027"/>
        <c:crosses val="autoZero"/>
        <c:auto val="1"/>
        <c:lblAlgn val="ctr"/>
        <c:lblOffset val="100"/>
        <c:noMultiLvlLbl val="0"/>
      </c:catAx>
      <c:valAx>
        <c:axId val="633620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068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4C17-94C1-41DF-93AE-B5505D24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EE4F-49A4-42DC-BF5F-06678DB4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DB8E-7B97-4303-99E8-5570175C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750B-E202-42DF-8E11-1D51B615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5BF3-DDE2-46BF-845E-A193AF57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19A6-0E82-4FD9-8692-669EBF40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0C98-A862-4871-A590-ECCCACE3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8D5A-5B2F-40C3-8035-7A26EA02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9E41-3F4A-4C56-BFDA-D84E482E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F14B-7AD6-4ED3-907F-E3E8096F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1284-4D15-4964-B0A8-D67279FC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9A7E-90B9-48F3-9095-553E1F79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9BCFB-DEB8-42AD-A543-D3E68FF77A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