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517"/>
        <c:axId val="96158254"/>
      </c:barChart>
      <c:catAx>
        <c:axId val="274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158254"/>
        <c:crosses val="autoZero"/>
        <c:auto val="1"/>
        <c:lblAlgn val="ctr"/>
        <c:lblOffset val="100"/>
        <c:noMultiLvlLbl val="0"/>
      </c:catAx>
      <c:valAx>
        <c:axId val="961582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F7C-6EA8-4213-88A5-8128834B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18C-2106-414C-97B8-7DF32237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644-ED02-4A93-8967-7DA2C89E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B114-E26D-4848-8010-D9B84550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D75-1D7B-4718-8D61-BC13B533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957-62C9-4CB7-8C67-5BC95371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77E-084E-4A09-A269-8BF3999C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7DF7-3331-43F6-8102-B780AA54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DC91-0649-4C7A-8ECA-77618CF3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DE3-7B5A-4197-95E7-A871117B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51E4-8BDB-4937-A3DA-9BC8413A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16FE-7E74-403A-8C3A-FE753708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7D2B8-6D08-4455-AC88-F5C646EF2B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