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74966"/>
        <c:axId val="10110285"/>
      </c:barChart>
      <c:catAx>
        <c:axId val="72674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0285"/>
        <c:crosses val="autoZero"/>
        <c:auto val="1"/>
        <c:lblAlgn val="ctr"/>
        <c:lblOffset val="100"/>
        <c:noMultiLvlLbl val="0"/>
      </c:catAx>
      <c:valAx>
        <c:axId val="10110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74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471-A82F-4CCD-9F9A-38E1F770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FAA-8D17-4D9B-8389-705BF10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58E-A5CB-4833-B630-61565221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B72-D28C-4187-A686-D3CF97C8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052-4BFD-42B3-A7EE-1B2F40F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A45-4E7B-46F3-BFF9-DE5F84EE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215-4B69-40D3-AA3D-AA73E9B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116-19BD-4AB8-89E9-B839AFE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CAA-5AD4-4C3E-BAE6-C31C4A6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4C-483B-4DA7-AA50-3ACD361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9F7-79EE-47C6-9EFD-80D4459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D21-2536-4C6A-91A8-55C8383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3ED59-FEF3-4F92-8035-90AABB777F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