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99007"/>
        <c:axId val="46541556"/>
      </c:barChart>
      <c:catAx>
        <c:axId val="23099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41556"/>
        <c:crosses val="autoZero"/>
        <c:auto val="1"/>
        <c:lblAlgn val="ctr"/>
        <c:lblOffset val="100"/>
        <c:noMultiLvlLbl val="0"/>
      </c:catAx>
      <c:valAx>
        <c:axId val="465415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99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77F-F9E0-4A48-BC98-45B13BFA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A7BD-996C-4D1A-B34A-EBD29AAB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35D-0F6C-4C88-8BFE-AA36CE7F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D1CE-2E59-4AC2-9C76-A321EE1E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6652-4401-4693-9577-3A768EC0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415-B32A-4077-A658-AACF8002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64A-A03A-4E86-B7D8-3B0C0D34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A1D-E217-4921-9691-E63DC190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E34-E18A-47A0-9E8F-EAB3B770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995-A886-41FE-8B56-72DC27E6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C0B5-4EF9-4055-B95D-492F39AA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77A-4231-4474-8FDD-B0678DCA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D3CD2-CF8D-4085-A544-BF574C15EA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