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780838"/>
        <c:axId val="41693467"/>
      </c:barChart>
      <c:catAx>
        <c:axId val="84780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93467"/>
        <c:crosses val="autoZero"/>
        <c:auto val="1"/>
        <c:lblAlgn val="ctr"/>
        <c:lblOffset val="100"/>
        <c:noMultiLvlLbl val="0"/>
      </c:catAx>
      <c:valAx>
        <c:axId val="41693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80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927-22FC-48CB-8396-5F78EA21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35C-A43F-4463-9845-846042A4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0A5-D8D8-4EB6-B53A-D0A33FBD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E43-5CE3-4DE5-94E0-B033BFB9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091-56D1-4178-8C91-E6C6BEE0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6A7-C78F-433D-AD48-E87860CB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1889-46BB-4AB0-82BE-71252752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7822-FFC6-4B83-AB04-854A85D1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AB15-0140-4FF3-9C76-0CBDB57C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D2B-D630-4924-B3F3-CD2C54B3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D56-0544-43CD-8717-E3A83980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B32-B0AF-47A0-8430-8128FD5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D72C5-F6FA-4D2A-9CB2-36C0783AD8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