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03686"/>
        <c:axId val="27021628"/>
      </c:barChart>
      <c:catAx>
        <c:axId val="56303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1628"/>
        <c:crosses val="autoZero"/>
        <c:auto val="1"/>
        <c:lblAlgn val="ctr"/>
        <c:lblOffset val="100"/>
        <c:noMultiLvlLbl val="0"/>
      </c:catAx>
      <c:valAx>
        <c:axId val="27021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3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BD9-1319-4336-A810-47A779E6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BD3-F87C-4AB4-9C20-44DC8B43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C08-6055-4526-998B-649FD810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C78-4126-4E92-AC29-7A4A2A1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5E1-D6A4-4DA1-9804-356E9FE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3DD-E034-4E24-99E0-C5B8830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56D-97D2-4BC5-B199-921603C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E31-16F4-4D51-96C9-7C30905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D3B-2636-471D-AA6D-CAB9F3E0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2FB-155A-417F-9766-B856EA7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D3-773C-42EE-A334-0B6FC1E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AEB-05C8-4B39-A870-4AA402E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8D7F-A029-48A5-A7E2-DFBE805C6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